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33911"/>
        <c:axId val="11429577"/>
      </c:barChart>
      <c:catAx>
        <c:axId val="22833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9577"/>
        <c:crosses val="autoZero"/>
        <c:auto val="1"/>
        <c:lblAlgn val="ctr"/>
        <c:lblOffset val="100"/>
        <c:noMultiLvlLbl val="0"/>
      </c:catAx>
      <c:valAx>
        <c:axId val="11429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33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28E-312F-4944-B802-0159CD82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9A7-04FC-49D8-BE48-02A75C66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24C-58B7-4687-ADF7-738BFF26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C04-A7D8-4847-81B4-AC0E1366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C48-51A1-4623-8B7C-38697E4D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A54-5466-4EDE-98A4-C27D24B6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3B5-23CD-441A-AD6E-6623BF89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428-CBF4-405B-BCEC-E1923F2B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D17-6A4A-47D0-AAEB-8FD3DA56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76A-7BB0-4DAE-8A53-76DE702A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ADC-3C52-4516-AEEE-804CED8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005-DC01-4A1B-A8FA-729A262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90547-61C2-473D-8645-6D8CAD3E0C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